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C2A5-13B9-4853-84B5-BDC260B1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4928-9B9E-4100-A654-56851981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9FCA-0E3B-439D-93B1-E11AD564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6865-0CED-4AA7-8D20-DAFD4488C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6302-624F-4626-8B02-CBA33665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91C0-723A-4713-A23F-8951BFD2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6B81-87A4-465F-B5BE-32D61C2A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B509-E23A-40A9-A869-76AF7A89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BB98-08E9-40DB-834F-B6F1B5C2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1F6B-3598-4DAE-9354-69B7490A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F5B4-C920-47F5-AB66-30DCE850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189A-CBE2-4209-A104-AE134B92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67F9-D6E3-486F-AA1C-E8BD09622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207 Nejedným úskalím nám treba prej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celkom blízko 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slávny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sľúbená otčin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miesto priprav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sľúbená otči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budeme naveky t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nkom a chrámom kd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bude s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movom pokojn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ane sa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sľúbená otčin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jedným úskalí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m treba prejs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ceste do otči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trapy premnohé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usíme zni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na ceste do otči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šak len za Pánom pôjdeme vpre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e sa nebud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zkosťou chvie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úst našich radost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ev bude znie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na ceste do otči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sľúbil, že bud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 nás vždy st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nad nami stále bd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kúškach a súženia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máha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nad nami stále bd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číha nepriate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 všetkých str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môže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íťaziť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mi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oľahnime sa bez výhra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na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nad nami stále bd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5T22:31:09Z</dcterms:modified>
  <cp:revision>21</cp:revision>
  <dc:subject/>
  <dc:title>Je veľký náš Pán, on slávy je Kráľ Nech do všetkých strán  spev vrúcnych znie chvál.</dc:title>
</cp:coreProperties>
</file>